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27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8.wmf" ContentType="image/x-wmf"/>
  <Override PartName="/ppt/media/image13.png" ContentType="image/png"/>
  <Override PartName="/ppt/media/image33.png" ContentType="image/png"/>
  <Override PartName="/ppt/media/image14.jpeg" ContentType="image/jpeg"/>
  <Override PartName="/ppt/media/image37.png" ContentType="image/png"/>
  <Override PartName="/ppt/media/image9.wmf" ContentType="image/x-wmf"/>
  <Override PartName="/ppt/media/image5.jpeg" ContentType="image/jpeg"/>
  <Override PartName="/ppt/media/image26.jpeg" ContentType="image/jpeg"/>
  <Override PartName="/ppt/media/image17.png" ContentType="image/png"/>
  <Override PartName="/ppt/media/image20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819-62DF-4E53-B2D8-73E5D17E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93A-3C9C-4E5B-9A08-A5D706A1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6DE-9B4D-4702-91BD-933BEECE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F9D-8799-4EEE-8866-ED8CE80A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DE4-23AC-4D78-83C2-008AA130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0DC-DC5E-4CC3-96F4-5F359B3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055-0848-4429-9EE1-9C3A587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7C2-CC06-444D-AB44-41559E10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466-4D67-48E6-81CE-EA35BEBF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E66-F06C-42EC-B69B-1F898FA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AF3-2197-44B8-88D4-5B3D64D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131-DDCF-4EE9-A4DC-7CA0B3A3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841-EA9E-4A32-B4A1-5466B7A26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ицинск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нау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Крагујевцу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Е СТРУКОВНЕ СТУД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9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РЕГИСТРОВАЊЕ И АНАЛИЗА ЕКГ – 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heartheavy.com/wp-content/uploads/EM00027_ma.jpg"/>
          <p:cNvPicPr/>
          <p:nvPr/>
        </p:nvPicPr>
        <p:blipFill>
          <a:blip r:embed="rId2"/>
          <a:stretch/>
        </p:blipFill>
        <p:spPr>
          <a:xfrm>
            <a:off x="2484360" y="3429000"/>
            <a:ext cx="38894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364000" y="59500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ЖБ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6562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ставља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ровни мембрански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 је период у коме је улазак и излазак позитивних јона 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ак 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ембрански потенцијал се приближав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равнотежном потенцијалу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77080" cy="5510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356560" y="33336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проводн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систем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 ср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26"/>
          <p:cNvSpPr/>
          <p:nvPr/>
        </p:nvSpPr>
        <p:spPr>
          <a:xfrm>
            <a:off x="250920" y="200520"/>
            <a:ext cx="8713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оатријал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SA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вор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ормалн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водник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(pacemaker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рчаног ритм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стабилан мировни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ф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4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тана д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iss-Purkin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атентни пејсмејкер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ако 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римир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27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29"/>
          <p:cNvSpPr/>
          <p:nvPr/>
        </p:nvSpPr>
        <p:spPr>
          <a:xfrm>
            <a:off x="179280" y="5221800"/>
            <a:ext cx="8964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рзина фаз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4 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понтане деполаризац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 највећа 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вору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јкраће тра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, затим 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чвору,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јспорија је 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урки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стем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SA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чвор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 &gt; AV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чвор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Хис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Пурки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то је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A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вор предводник срчаног 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256240" y="18360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324000" y="47592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ор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 спонтана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дговорна је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ејсмејкерску активнос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SA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чво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аутоматизам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, као и за пејсмејкерску активност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V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во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ис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уркињ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већане проводљивост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доводи 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ласк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 ћел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50"/>
          <p:cNvSpPr/>
          <p:nvPr/>
        </p:nvSpPr>
        <p:spPr>
          <a:xfrm>
            <a:off x="250920" y="411120"/>
            <a:ext cx="8569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агли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ко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спо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већане проводљивости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доводи до повећ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уласка позитивних јо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у ћел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уп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 мембране према 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ска база за фаз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у је различи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оне у комор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ткомор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Пуркиње-ов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лакнима с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де је она резултат ула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26"/>
          <p:cNvSpPr/>
          <p:nvPr/>
        </p:nvSpPr>
        <p:spPr>
          <a:xfrm>
            <a:off x="324000" y="562680"/>
            <a:ext cx="864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таје као последица повећане 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аска јо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лијум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(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доводи до реполаризације мембранск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аз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1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ису присутн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у акционом потенцијал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6"/>
          <p:cNvSpPr/>
          <p:nvPr/>
        </p:nvSpPr>
        <p:spPr>
          <a:xfrm>
            <a:off x="395280" y="171000"/>
            <a:ext cx="85694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ог потенцијала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езулт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ласк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озитивних јона калцијум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(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у долази до успоравања импул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о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на влакна су мног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его влак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ло прелазних спој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везује узастопна влакна па је велики отпор проласку јона кроз вла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9280" y="1268280"/>
            <a:ext cx="33530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рзина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ајмања 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AV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ушта да се комо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љно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уне пре не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наступ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њихова 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 је брз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вођења кро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њење комора може бити смање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24000" y="549360"/>
            <a:ext cx="381636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рзина провођењ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казује време које је потребно да би се ексцитација проширила кроз срчано ткив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личине уласка позитивних јона у ћелију током фазе успона акционог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 улазак јона доводи до већ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ајвећ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брзина провођења у спроводном систему срц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ј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Хис-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уркињ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ов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истему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што омогућава синхрону контракцију миокарда комора у систоли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333000"/>
            <a:ext cx="8713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а регистровања акционих потенцијала срца назива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И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парат којим се региструју акциони потенцијали срца зове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ки запис који се добија притом назива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М (ЕКГ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струје се на посебном папиру који је подељен на милиметре вертикалним и хоризонталним линијама а на сваких 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 линије су подебљ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зина кретања папира при регистровању износи 2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изонтална оса - време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4 s), вертикална оса - волтажа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m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sweethaven02.com/MedTech/CardiacRhythm/571.ht4.gif"/>
          <p:cNvPicPr/>
          <p:nvPr/>
        </p:nvPicPr>
        <p:blipFill>
          <a:blip r:embed="rId1"/>
          <a:stretch/>
        </p:blipFill>
        <p:spPr>
          <a:xfrm>
            <a:off x="1332000" y="3857760"/>
            <a:ext cx="607680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631280" y="1159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Е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1295280" y="2275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ЗИОЛОГИЈА СРЧАН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098360"/>
            <a:ext cx="3830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ркалатни дис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јављају на крајевима ћел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оз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 присутне на интеркалатним дисков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 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утеви ниског от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ђу ћелија који омогућавају брзи пренос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јашњавају чињеницу да се срце понаша као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лектрични синцицију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5003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нтерпретација ЕКГ – 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http://www.merckmanuals.com/media/professional/figures/MMPE_07CVS_70_02_eps.gif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Г запис је бифазичан (када је правац деполаризације под углом од 90° према осовини одвод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и ЕКГ–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прет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постоји 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усни ритам (из SA чвора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не постоји →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јчешћ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дални ритам (из AV чвор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сегмент = плато фаза потенцијала преткоморск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окарда,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пагација импулса кроз AV чвор и Хисов сн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деполаризација преткомора, AV чвора и Хисовог сноп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32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8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то фаза потенцијала коморског миокард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 интервал = целокупна електрична активност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реполаризација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krivulja"/>
          <p:cNvPicPr/>
          <p:nvPr/>
        </p:nvPicPr>
        <p:blipFill>
          <a:blip r:embed="rId2"/>
          <a:stretch/>
        </p:blipFill>
        <p:spPr>
          <a:xfrm>
            <a:off x="4643280" y="1125360"/>
            <a:ext cx="41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стровање ЕКГ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Г се стандардно региструје 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одв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екстремитет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стандардна биполарна (I, II, II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појачана униполарна  (aVR, aVL, aVF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прекордију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1 – V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и ЕКГ одвод 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вину = права између постављених елект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јентацију = положај осовине (хоризонталан, вертикалан, дијагоналан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тет = ло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а позитивног и негативног пола електрода ЕКГ апарата које се налазе на крајевима осо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Чему служе одв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Биполарним стандардним одвод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, II, III) региструје се разлика у потенцијалу између два изабрана мес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јачаним униполарним екстремитет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VR, aVL, aVF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ордија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1 – V6) одводима се региструје укупан потенцијал срца који стиже до одговарајућег екстремитета или тачке прекордију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кстремитетни одводи служе за брзу процену положаја срца у грудној дупљ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кордијални одводи служе за процену физиолошког стања или оштећења срчаног мишић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8920" y="1413000"/>
            <a:ext cx="4032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 одвод = између десне руке (-) и леве рук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 одвод = између десн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 одвод = између лев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http://www.cvrti.utah.edu/~macleod/bioen/be6000/labnotes/ecg/figures/limbleads.jpg"/>
          <p:cNvPicPr/>
          <p:nvPr/>
        </p:nvPicPr>
        <p:blipFill>
          <a:blip r:embed="rId1"/>
          <a:stretch/>
        </p:blipFill>
        <p:spPr>
          <a:xfrm>
            <a:off x="4356000" y="1773360"/>
            <a:ext cx="44481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250920" y="189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03280" y="1844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од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одво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од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ipolarni odvodi"/>
          <p:cNvPicPr/>
          <p:nvPr/>
        </p:nvPicPr>
        <p:blipFill>
          <a:blip r:embed="rId1"/>
          <a:stretch/>
        </p:blipFill>
        <p:spPr>
          <a:xfrm>
            <a:off x="1332000" y="2781360"/>
            <a:ext cx="5705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јачани униполарни одв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VR, aVL, aV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= појачање з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= вол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(right)= десна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 (left)= лева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 (foot)=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в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ан по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спаја са региструјућим електродама, 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гативан п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а нултом тачком за коју су унутрашњом синхронизацијом повезана сва три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http://www.cvphysiology.com/Arrhythmias/A013b%20ECG%20aug%20leads.gif"/>
          <p:cNvPicPr/>
          <p:nvPr/>
        </p:nvPicPr>
        <p:blipFill>
          <a:blip r:embed="rId1"/>
          <a:stretch/>
        </p:blipFill>
        <p:spPr>
          <a:xfrm>
            <a:off x="6156360" y="1341360"/>
            <a:ext cx="2808360" cy="496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16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50920" y="581760"/>
            <a:ext cx="381636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итохондр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 бројније у срчаном него у скелетном мишићу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 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уб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дубоке инвагинације ћелијске мембр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оциране су у области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ин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 омогућавају преношење акционог потенцијала у унутрашњост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добро су развијене у комора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ли слабо у преткомо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формирају тријаде са саркоплазматским рет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адрже волтаж-зависне протеине назване дихидропиридински рецеп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аркоплазматски ретикулум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Р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 тубуле малог дијаметра које се налазе у близини контрактилних елеменат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су места где се складиште и из кога се ослобађају јони калцију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за повезивање процеса ексцитације-контра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адрже канале за ослобађање калцију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тзв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рианодински рецептор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иполарни прекордијал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83628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ложај електро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1 = 4. међуребарни простор уз десн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2 = 4. међуребарни простор уз лев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3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на средини између V2 и V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4 = 5. међуребарни простор на медиоклавикуларној лин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5 = на п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ста хоризонтална раван као 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6 = на с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ight Brace 4"/>
          <p:cNvSpPr/>
          <p:nvPr/>
        </p:nvSpPr>
        <p:spPr>
          <a:xfrm>
            <a:off x="4500720" y="2565360"/>
            <a:ext cx="360360" cy="863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5616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http://www.cardiacscience.com/assets/006/5576.jpg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ниполарни прекордијални одво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Шта се може одредити уз помоћ ЕКГ-а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рекв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овина (положај ср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ертро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ар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4"/>
          <p:cNvSpPr/>
          <p:nvPr/>
        </p:nvSpPr>
        <p:spPr>
          <a:xfrm>
            <a:off x="684360" y="3645000"/>
            <a:ext cx="52560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рекв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 чвор = 60-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 чвор = 40-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ркињева влакна = 15-4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тах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ν = 60s/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4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 бро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мањ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дратића између два узастопна R зуп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3095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834560" y="26028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56"/>
          <p:cNvPicPr/>
          <p:nvPr/>
        </p:nvPicPr>
        <p:blipFill>
          <a:blip r:embed="rId1"/>
          <a:stretch/>
        </p:blipFill>
        <p:spPr>
          <a:xfrm>
            <a:off x="4572000" y="3141720"/>
            <a:ext cx="4321080" cy="335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64"/>
          <p:cNvPicPr/>
          <p:nvPr/>
        </p:nvPicPr>
        <p:blipFill>
          <a:blip r:embed="rId2"/>
          <a:stretch/>
        </p:blipFill>
        <p:spPr>
          <a:xfrm>
            <a:off x="108000" y="3068640"/>
            <a:ext cx="4392720" cy="3424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468360" y="105264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одређивање фреквенце на овај начин гледамо на ЕКГ запису (траци) вертикалне дебеле црвене линије (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 који је “пао” на једну од дебелих вертикалних линија почињемо бројање до следећег (претходног или наредн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58"/>
          <p:cNvPicPr/>
          <p:nvPr/>
        </p:nvPicPr>
        <p:blipFill>
          <a:blip r:embed="rId1"/>
          <a:stretch/>
        </p:blipFill>
        <p:spPr>
          <a:xfrm>
            <a:off x="179280" y="1413000"/>
            <a:ext cx="4753080" cy="3727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762920" y="18900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34136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итам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е би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егуларан, срчани циклуси се смењују у једнаким временским интервалим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ЕКГ-у једнаки размаци између узастопних R зуба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регуларан, arrhyth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броје се најмањи квадрати између узастопних R зубаца и упоређује време (1 квадрат = 0,04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http://www.bannerhealth.com/NR/rdonlyres/5CFF4A7B-01B5-4B7A-BF9B-02737DF18C02/24233/normal_heart_rhythm.jpg"/>
          <p:cNvPicPr/>
          <p:nvPr/>
        </p:nvPicPr>
        <p:blipFill>
          <a:blip r:embed="rId1"/>
          <a:stretch/>
        </p:blipFill>
        <p:spPr>
          <a:xfrm>
            <a:off x="4788000" y="2205000"/>
            <a:ext cx="4105080" cy="14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pediatriccardiology.uchicago.edu/pp/Images/atrial_fib.jpg"/>
          <p:cNvPicPr/>
          <p:nvPr/>
        </p:nvPicPr>
        <p:blipFill>
          <a:blip r:embed="rId2"/>
          <a:stretch/>
        </p:blipFill>
        <p:spPr>
          <a:xfrm>
            <a:off x="4859280" y="4221000"/>
            <a:ext cx="3960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електрични вектор срца (средњи QRS вектор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средња јачина, смер и поларитет целокупног потенцијала сваког срчаног циклуса; смер срчаног вектора током деполаризације у фронталној рав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QRS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 одређује преко 3 или 6-осног система који се добијају укрштањем осовина свих 6 одвода фронталне равни (екстремитетни одводи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ална тачка система јесте центар тј. сре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вина одв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прецизно одређивање положаја средњег QRS вектора користи с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nthoven–ов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афички Einthoven–ов троугао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овом закон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бир волтажа QRS комплекса I и III одвода једнак је збиру волтажа QRS комплекса II од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http://www.adinstruments.com/solutions/images/standard-leadscopy.gif"/>
          <p:cNvPicPr/>
          <p:nvPr/>
        </p:nvPicPr>
        <p:blipFill>
          <a:blip r:embed="rId1"/>
          <a:stretch/>
        </p:blipFill>
        <p:spPr>
          <a:xfrm>
            <a:off x="395280" y="198900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р средњег електричног вектора срца (средњег QRS вектора) мож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одредити  двоја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о одређивање смера средњег QRS 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7083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2"/>
          <p:cNvSpPr/>
          <p:nvPr/>
        </p:nvSpPr>
        <p:spPr>
          <a:xfrm>
            <a:off x="45720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609480" y="412920"/>
            <a:ext cx="82296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р средње електричне осовине срца се одређује тако што се прво одреди збир → волтажа R – (S + Q) и смер (позитивна/негативна волтажа) волтаже QRS комплекса било која два од три стандардна од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су нето волта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носе се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овину осе и обрну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medicine-on-line.com/html/ecg/e0001en_files/image126.png"/>
          <p:cNvPicPr/>
          <p:nvPr/>
        </p:nvPicPr>
        <p:blipFill>
          <a:blip r:embed="rId1"/>
          <a:stretch/>
        </p:blipFill>
        <p:spPr>
          <a:xfrm>
            <a:off x="3492360" y="3213000"/>
            <a:ext cx="3383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ИТМИЧКА ЕКСЦИТАЦИЈА СР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ани миши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е састоји и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не мускулатур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преткоморски и коморски мишић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роводног систе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чине га специјализована мишићна влак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А ч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V чвор – АV сно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сов сно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ркинијева влак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http://media.jaapa.com/images/2010/07/29/ecg_lead_angulation_112669_112670.gif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www.madsci.com/manu/ekg_pics/vector.gif"/>
          <p:cNvPicPr/>
          <p:nvPr/>
        </p:nvPicPr>
        <p:blipFill>
          <a:blip r:embed="rId2"/>
          <a:stretch/>
        </p:blipFill>
        <p:spPr>
          <a:xfrm>
            <a:off x="755640" y="400536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www.vhlab.umn.edu/~bmen3701/Images/lead_axis_reference.gif"/>
          <p:cNvPicPr/>
          <p:nvPr/>
        </p:nvPicPr>
        <p:blipFill>
          <a:blip r:embed="rId3"/>
          <a:stretch/>
        </p:blipFill>
        <p:spPr>
          <a:xfrm>
            <a:off x="755640" y="765000"/>
            <a:ext cx="7632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5"/>
          <p:cNvSpPr/>
          <p:nvPr/>
        </p:nvSpPr>
        <p:spPr>
          <a:xfrm>
            <a:off x="2340000" y="2565360"/>
            <a:ext cx="3209760" cy="90360"/>
          </a:xfrm>
          <a:prstGeom prst="rightArrow">
            <a:avLst>
              <a:gd name="adj1" fmla="val 50000"/>
              <a:gd name="adj2" fmla="val 888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8128200">
            <a:off x="2053440" y="2597040"/>
            <a:ext cx="3210120" cy="90720"/>
          </a:xfrm>
          <a:prstGeom prst="rightArrow">
            <a:avLst>
              <a:gd name="adj1" fmla="val 50000"/>
              <a:gd name="adj2" fmla="val 8846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7"/>
          <p:cNvCxnSpPr/>
          <p:nvPr/>
        </p:nvCxnSpPr>
        <p:spPr>
          <a:xfrm>
            <a:off x="3708360" y="2565000"/>
            <a:ext cx="581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5" name="AutoShape 8"/>
          <p:cNvCxnSpPr/>
          <p:nvPr/>
        </p:nvCxnSpPr>
        <p:spPr>
          <a:xfrm flipH="1">
            <a:off x="3059280" y="2565360"/>
            <a:ext cx="638280" cy="66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AutoShape 9"/>
          <p:cNvCxnSpPr/>
          <p:nvPr/>
        </p:nvCxnSpPr>
        <p:spPr>
          <a:xfrm>
            <a:off x="4284360" y="2565000"/>
            <a:ext cx="1080" cy="21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AutoShape 10"/>
          <p:cNvCxnSpPr/>
          <p:nvPr/>
        </p:nvCxnSpPr>
        <p:spPr>
          <a:xfrm>
            <a:off x="3059280" y="3213000"/>
            <a:ext cx="1553040" cy="15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AutoShape 11"/>
          <p:cNvCxnSpPr/>
          <p:nvPr/>
        </p:nvCxnSpPr>
        <p:spPr>
          <a:xfrm>
            <a:off x="3708360" y="2637000"/>
            <a:ext cx="581400" cy="18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"/>
          <p:cNvSpPr txBox="1"/>
          <p:nvPr/>
        </p:nvSpPr>
        <p:spPr>
          <a:xfrm>
            <a:off x="468000" y="69228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ви од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гао под којим се срце налаз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 грудној дупљи (59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ећи од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мер средње електричне осовине ср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us 15"/>
          <p:cNvSpPr/>
          <p:nvPr/>
        </p:nvSpPr>
        <p:spPr>
          <a:xfrm>
            <a:off x="5003640" y="2276640"/>
            <a:ext cx="289080" cy="215640"/>
          </a:xfrm>
          <a:custGeom>
            <a:avLst/>
            <a:gdLst>
              <a:gd name="textAreaLeft" fmla="*/ 38160 w 289080"/>
              <a:gd name="textAreaRight" fmla="*/ 250920 w 28908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88925" h="215900">
                <a:moveTo>
                  <a:pt x="38297" y="82560"/>
                </a:moveTo>
                <a:lnTo>
                  <a:pt x="119073" y="82560"/>
                </a:lnTo>
                <a:lnTo>
                  <a:pt x="119073" y="28618"/>
                </a:lnTo>
                <a:lnTo>
                  <a:pt x="169852" y="28618"/>
                </a:lnTo>
                <a:lnTo>
                  <a:pt x="169852" y="82560"/>
                </a:lnTo>
                <a:lnTo>
                  <a:pt x="250628" y="82560"/>
                </a:lnTo>
                <a:lnTo>
                  <a:pt x="250628" y="133340"/>
                </a:lnTo>
                <a:lnTo>
                  <a:pt x="169852" y="133340"/>
                </a:lnTo>
                <a:lnTo>
                  <a:pt x="169852" y="187282"/>
                </a:lnTo>
                <a:lnTo>
                  <a:pt x="119073" y="187282"/>
                </a:lnTo>
                <a:lnTo>
                  <a:pt x="119073" y="133340"/>
                </a:lnTo>
                <a:lnTo>
                  <a:pt x="3829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us 16"/>
          <p:cNvSpPr/>
          <p:nvPr/>
        </p:nvSpPr>
        <p:spPr>
          <a:xfrm>
            <a:off x="2268360" y="3500280"/>
            <a:ext cx="287640" cy="216000"/>
          </a:xfrm>
          <a:custGeom>
            <a:avLst/>
            <a:gdLst>
              <a:gd name="textAreaLeft" fmla="*/ 38160 w 287640"/>
              <a:gd name="textAreaRight" fmla="*/ 249480 w 287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87337" h="215900">
                <a:moveTo>
                  <a:pt x="38087" y="82560"/>
                </a:moveTo>
                <a:lnTo>
                  <a:pt x="118279" y="82560"/>
                </a:lnTo>
                <a:lnTo>
                  <a:pt x="118279" y="28618"/>
                </a:lnTo>
                <a:lnTo>
                  <a:pt x="169058" y="28618"/>
                </a:lnTo>
                <a:lnTo>
                  <a:pt x="169058" y="82560"/>
                </a:lnTo>
                <a:lnTo>
                  <a:pt x="249250" y="82560"/>
                </a:lnTo>
                <a:lnTo>
                  <a:pt x="249250" y="133340"/>
                </a:lnTo>
                <a:lnTo>
                  <a:pt x="169058" y="133340"/>
                </a:lnTo>
                <a:lnTo>
                  <a:pt x="169058" y="187282"/>
                </a:lnTo>
                <a:lnTo>
                  <a:pt x="118279" y="187282"/>
                </a:lnTo>
                <a:lnTo>
                  <a:pt x="118279" y="133340"/>
                </a:lnTo>
                <a:lnTo>
                  <a:pt x="3808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Minus 17"/>
          <p:cNvSpPr/>
          <p:nvPr/>
        </p:nvSpPr>
        <p:spPr>
          <a:xfrm>
            <a:off x="2268360" y="234936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us 19"/>
          <p:cNvSpPr/>
          <p:nvPr/>
        </p:nvSpPr>
        <p:spPr>
          <a:xfrm>
            <a:off x="4500720" y="1413000"/>
            <a:ext cx="215640" cy="21564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rved Left Arrow 20"/>
          <p:cNvSpPr/>
          <p:nvPr/>
        </p:nvSpPr>
        <p:spPr>
          <a:xfrm>
            <a:off x="3851280" y="2565360"/>
            <a:ext cx="360360" cy="43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74160 h 432000"/>
              <a:gd name="textAreaBottom" fmla="*/ 312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3184222"/>
                <a:lnTo>
                  <a:pt x="5400" y="21364"/>
                </a:lnTo>
                <a:lnTo>
                  <a:pt x="0" y="17094"/>
                </a:lnTo>
                <a:lnTo>
                  <a:pt x="5400" y="12351"/>
                </a:lnTo>
                <a:lnTo>
                  <a:pt x="5400" y="14604"/>
                </a:lnTo>
                <a:arcTo wR="21600" hR="7420" stAng="3184222" swAng="-2809280"/>
                <a:lnTo>
                  <a:pt x="20580" y="9674"/>
                </a:lnTo>
                <a:arcTo wR="21600" hR="7420" stAng="-374943" swAng="-5025057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-374943"/>
                <a:lnTo>
                  <a:pt x="20580" y="9674"/>
                </a:lnTo>
                <a:arcTo wR="21600" hR="7420" stAng="-374943" swAng="-5025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22"/>
          <p:cNvCxnSpPr/>
          <p:nvPr/>
        </p:nvCxnSpPr>
        <p:spPr>
          <a:xfrm>
            <a:off x="4211280" y="2852280"/>
            <a:ext cx="230544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traight Arrow Connector 24"/>
          <p:cNvCxnSpPr/>
          <p:nvPr/>
        </p:nvCxnSpPr>
        <p:spPr>
          <a:xfrm>
            <a:off x="3995280" y="3499920"/>
            <a:ext cx="180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7" name="Picture 18" descr="ekg traka I odvod"/>
          <p:cNvPicPr/>
          <p:nvPr/>
        </p:nvPicPr>
        <p:blipFill>
          <a:blip r:embed="rId1"/>
          <a:stretch/>
        </p:blipFill>
        <p:spPr>
          <a:xfrm>
            <a:off x="5796000" y="692280"/>
            <a:ext cx="2560680" cy="64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ekg traka III odvod"/>
          <p:cNvPicPr/>
          <p:nvPr/>
        </p:nvPicPr>
        <p:blipFill>
          <a:blip r:embed="rId2"/>
          <a:stretch/>
        </p:blipFill>
        <p:spPr>
          <a:xfrm>
            <a:off x="5796000" y="1557360"/>
            <a:ext cx="25606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рзо одређивање смера средњег QRS в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0560" y="1341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е се нето волтаже у I стандардном биполарном одводу и нето волтажа aV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Екстремна 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стрем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лева 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лев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декстр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http://flylib.com/books/2/569/1/html/2/19.%20Basic%20ECG%20Reading_files/loadBinary_019.gif"/>
          <p:cNvPicPr/>
          <p:nvPr/>
        </p:nvPicPr>
        <p:blipFill>
          <a:blip r:embed="rId1"/>
          <a:stretch/>
        </p:blipFill>
        <p:spPr>
          <a:xfrm>
            <a:off x="1908000" y="2349360"/>
            <a:ext cx="4967640" cy="403236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5"/>
          <p:cNvCxnSpPr/>
          <p:nvPr/>
        </p:nvCxnSpPr>
        <p:spPr>
          <a:xfrm flipV="1">
            <a:off x="5579640" y="3573000"/>
            <a:ext cx="1801080" cy="28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6"/>
          <p:cNvCxnSpPr/>
          <p:nvPr/>
        </p:nvCxnSpPr>
        <p:spPr>
          <a:xfrm>
            <a:off x="4643280" y="4436640"/>
            <a:ext cx="259344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7"/>
          <p:cNvCxnSpPr/>
          <p:nvPr/>
        </p:nvCxnSpPr>
        <p:spPr>
          <a:xfrm flipH="1" flipV="1">
            <a:off x="1618920" y="2996640"/>
            <a:ext cx="2305440" cy="93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Straight Arrow Connector 8"/>
          <p:cNvCxnSpPr/>
          <p:nvPr/>
        </p:nvCxnSpPr>
        <p:spPr>
          <a:xfrm flipH="1">
            <a:off x="1258560" y="4581360"/>
            <a:ext cx="230400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4560" y="1890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4000" y="927720"/>
            <a:ext cx="8351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море, преткоморе и Пуркињеов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табилан мировни мембрански потенцијал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од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волт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 вредност се приближава вредности равнотежног потенцијала з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циони потенција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уго тр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чито 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ркињеовим влакн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де трају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секунд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836280" y="436572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азе акцио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468360" y="4437000"/>
            <a:ext cx="287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241200"/>
            <a:ext cx="85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агли скок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пролазним повећањем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 доводи до уласка позити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а што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поларизује мембра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енцијал тежи 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4000" y="344520"/>
            <a:ext cx="776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кратак период иницијалне реполар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ицијална реполаризациј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као последица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ласка позитивног наелектрисања 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елом услед кретањ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јон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воризова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стране хемијског и електричног градијен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 ћел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 делом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мањене проводљивости за јоне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98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услед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олазног повећања проводљивости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доводи 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ласка позитивних јон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 ћели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 смањењ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оводљивости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фа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2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лазак и улазак јона је приближно и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о да се потенцијал мембране одржава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лат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258840"/>
            <a:ext cx="828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фа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3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 смањ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 се 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сока проводљивост 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води до великог изла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што враћа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мбране прем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внотежном потенцијалу 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User</cp:lastModifiedBy>
  <dcterms:modified xsi:type="dcterms:W3CDTF">2014-10-01T14:43:12Z</dcterms:modified>
  <cp:revision>156</cp:revision>
  <dc:subject/>
  <dc:title>Slide 1</dc:title>
</cp:coreProperties>
</file>